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3.png" ContentType="image/png"/>
  <Override PartName="/ppt/media/image12.png" ContentType="image/png"/>
  <Override PartName="/ppt/media/image11.wmf" ContentType="image/x-wmf"/>
  <Override PartName="/ppt/media/image9.wmf" ContentType="image/x-wmf"/>
  <Override PartName="/ppt/media/image14.png" ContentType="image/png"/>
  <Override PartName="/ppt/media/image8.jpeg" ContentType="image/jpeg"/>
  <Override PartName="/ppt/media/image10.wmf" ContentType="image/x-wmf"/>
  <Override PartName="/ppt/media/image4.jpeg" ContentType="image/jpeg"/>
  <Override PartName="/ppt/media/image7.jpeg" ContentType="image/jpeg"/>
  <Override PartName="/ppt/media/image22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8.wmf" ContentType="image/x-wmf"/>
  <Override PartName="/ppt/media/image20.wmf" ContentType="image/x-wmf"/>
  <Override PartName="/ppt/media/image17.wmf" ContentType="image/x-wmf"/>
  <Override PartName="/ppt/media/image1.wmf" ContentType="image/x-wmf"/>
  <Override PartName="/ppt/media/image2.jpeg" ContentType="image/jpeg"/>
  <Override PartName="/ppt/media/image3.jpeg" ContentType="image/jpeg"/>
  <Override PartName="/ppt/media/image15.png" ContentType="image/png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B7B7-8FEA-47F2-80E2-13899F905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2809-06C1-4EF6-9ED9-9BDD990C7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F0FE-406F-47FA-9B2C-3EFDE4A0F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9B12-2EE2-48BD-81C4-F0B3BF441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4FE07-C447-4F11-B6B2-072B72FAF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02194-3602-4527-BDAC-10CBAE25B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2FD00-F2D1-4F48-B33B-2B8B76518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E6C50-D1BF-48D7-99A8-2767B808B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C66F5-2E73-448C-B85A-FF041A3CF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84210-8801-4CF3-80CA-06500926F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8E626-CF04-4BEB-98AA-E118DC79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3013-742F-459B-AC32-0109187D4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23961-B66E-4CDA-85EE-9F3910D4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0C236-5F15-4BFF-87B5-804BD7B3A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E97BA-E305-412E-BF92-B7B306B44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C056E-CE5D-4032-B5C2-52B28CBFC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D0E06-A4EF-4064-8E37-C9EBFF8A9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1653-9E31-4790-A6CE-C18AE43FA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18DD-CB29-4533-A76D-4C668C525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CE88-79DD-417D-9CE5-9E4A5480B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8C02-FDDD-4C98-8BE4-4584F429B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946D-8463-4062-94BC-91F12CA0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62B1-EDE4-4053-B66E-B4C1643D9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2910-31CE-4E8A-A2A5-75503B05E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F9360-B182-474A-B3A4-12123154480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4764C-F543-40A4-8313-4289FAC9E9D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Good fry-day-Day 10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ge 115, prob#58&amp;#62(hint do it now!!)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mework review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y other questions?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ore About Work, cont.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 can be positive or negat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if the force and the displacement are in the same dir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gative if the force and the displacement are in the opposite dir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When Work is Zero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placement is horizont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ce is vertic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 90° = 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Picture 7" descr=""/>
          <p:cNvPicPr/>
          <p:nvPr/>
        </p:nvPicPr>
        <p:blipFill>
          <a:blip r:embed="rId1"/>
          <a:stretch/>
        </p:blipFill>
        <p:spPr>
          <a:xfrm>
            <a:off x="6019920" y="1981080"/>
            <a:ext cx="241452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Work Can Be Positive or Negativ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rk is positive when lifting the bo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rk would be negative if lowering the bo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force would still be upward, but the displacement would be downwar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7" descr=""/>
          <p:cNvPicPr/>
          <p:nvPr/>
        </p:nvPicPr>
        <p:blipFill>
          <a:blip r:embed="rId1"/>
          <a:stretch/>
        </p:blipFill>
        <p:spPr>
          <a:xfrm>
            <a:off x="5715000" y="1905120"/>
            <a:ext cx="31003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Work and Dissipative Forc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rk can be done by fri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energy lost to friction by an object goes into heating both the object and its environ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me energy may be converted into sou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now, the phrase “Work done by friction” will denote the effect of the friction processes on mechanical energy alo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Page 151,#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Kinetic Energ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ergy associated with the motion of an obje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calar quantity with the same units as wor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 is related to kinetic energ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4"/>
              <p:cNvSpPr txBox="1"/>
              <p:nvPr/>
            </p:nvSpPr>
            <p:spPr>
              <a:xfrm>
                <a:off x="1600200" y="2895480"/>
                <a:ext cx="190512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Work-Kinetic Energy Theorem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work is done by a net force on an object and the only change in the object is its speed,(i.e. no vert.</a:t>
            </a: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  the work done is equal to the change in the object’s kinetic energ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eed will increase if work is posit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eed will decrease if work is negat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6" name="Object 4"/>
          <p:cNvGraphicFramePr/>
          <p:nvPr/>
        </p:nvGraphicFramePr>
        <p:xfrm>
          <a:off x="1600200" y="4267080"/>
          <a:ext cx="4084560" cy="5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4267080"/>
                    <a:ext cx="4084560" cy="5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Work and Kinetic Energ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object’s kinetic energy can also be thought of as the amount of work the moving object could do in coming to re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moving hammer has kinetic energy and can do work on the nai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#1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0" name="Object 4"/>
          <p:cNvGraphicFramePr/>
          <p:nvPr/>
        </p:nvGraphicFramePr>
        <p:xfrm>
          <a:off x="5181480" y="1828800"/>
          <a:ext cx="318456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1828800"/>
                    <a:ext cx="318456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ypes of Forc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re are two general kinds of fo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erv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and energy associated with the force can be recover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nconserv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forces are generally dissipative and work done against it cannot easily be recover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onservative Forc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force is conservative if the work it does on an object moving between two points is independent of the path the objects take between the poi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work depends only upon the initial and final positions of the obje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y conservative force can ( and usually does), have a potential energy function associated with 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ore About Conservative Forc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 of conservative forces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av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ring for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ectromagnetic fo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tential energy is another way of looking at the work done by conservative for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#2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2374920"/>
            <a:ext cx="7772400" cy="59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hapter 5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erg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Nonconservative Forc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force is nonconservative if the work it does on an object depends on the path taken by the object between its final and starting poin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 of nonconservative for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inetic friction, air drag, propulsive fo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#1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Friction as a Nonconservative Forc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friction force is transformed from the kinetic energy of the object into a type of energy associated with temperat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bjects are warmer than they were before the mo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Internal Energ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the term used for the energy associated with an object’s temperat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Friction Depends on the Path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blue path is shorter than the red pa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ork required is less on the blue path than on the red pa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riction depends on the path and so is a non-conservative for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" name="Picture 9" descr=""/>
          <p:cNvPicPr/>
          <p:nvPr/>
        </p:nvPicPr>
        <p:blipFill>
          <a:blip r:embed="rId1"/>
          <a:stretch/>
        </p:blipFill>
        <p:spPr>
          <a:xfrm>
            <a:off x="4419720" y="2209680"/>
            <a:ext cx="470376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otential Energ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tential energy is associated with the position of the object within some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tential energy is a property of the system, not the obje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system is a collection of objects interacting via forces or processes that are internal to th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Work and Potential Energ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every conservative force a potential energy function can be fou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valuating the difference of the function at any two points in an object’s path gives the negative of the work done by the force between those two points, (even I can’t get this crap quickly!!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.e. W = - </a:t>
            </a: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Gravitational Potential Energ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ravitational Potential Energy is the energy associated with the relative position of an object in space near the Earth’s surfa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bjects interact with the earth through the gravitational for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tually the potential energy is for the earth-object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Work and Gravitational Potential Energ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 = mg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its of Potential Energy are the same as those of Work and Kinetic Energ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5"/>
              <p:cNvSpPr txBox="1"/>
              <p:nvPr/>
            </p:nvSpPr>
            <p:spPr>
              <a:xfrm>
                <a:off x="1600200" y="2590920"/>
                <a:ext cx="274320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ravity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E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64" name="Picture 8" descr=""/>
          <p:cNvPicPr/>
          <p:nvPr/>
        </p:nvPicPr>
        <p:blipFill>
          <a:blip r:embed="rId1"/>
          <a:stretch/>
        </p:blipFill>
        <p:spPr>
          <a:xfrm>
            <a:off x="5105520" y="1854360"/>
            <a:ext cx="3824280" cy="50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Work-Energy Theorem, Extended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ork-energy theorem can be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extende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to include potential energ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other conservative forces are present, potential energy functions can be developed for them and their change in that potential energy added to the right side of the equ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.e. W= total change in energy =</a:t>
            </a: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7" name="Object 4"/>
          <p:cNvGraphicFramePr/>
          <p:nvPr/>
        </p:nvGraphicFramePr>
        <p:xfrm>
          <a:off x="2057400" y="2971800"/>
          <a:ext cx="5638680" cy="5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971800"/>
                    <a:ext cx="563868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Verdana"/>
              </a:rPr>
              <a:t>Reference Levels for Gravitational Potential Energy</a:t>
            </a:r>
            <a:endParaRPr b="0" lang="en-US" sz="3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location where the gravitational potential energy is zero must be chosen for each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hoice is arbitrary since the change in the potential energy is the important quant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oose a convenient location for the zero reference heigh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ften the Earth’s surfa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y be some other point suggested by the probl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ce the position is chosen, it must remain fixed for the entire probl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onservation of Mechanical Energ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servation in gener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say a physical quantity is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conserve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to say that the numerical value of the quantity remains constant throughout any physical proc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Conservation of Energy, the total mechanical energy remains consta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In any </a:t>
            </a:r>
            <a:r>
              <a:rPr b="0" i="1" lang="en-US" sz="2400" spc="-1" strike="noStrike">
                <a:solidFill>
                  <a:srgbClr val="3333cc"/>
                </a:solidFill>
                <a:latin typeface="Verdana"/>
              </a:rPr>
              <a:t>isolated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 system of objects interacting only through conservative forces, the total mechanical energy of the system remains consta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Best example is body in freefall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#3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Forms of Energ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chanic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 for no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kinetic (associated with motion) or potential (associated with positio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emic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ctromagnet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uclea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onservation of Energy, cont.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tal mechanical energy is the sum of the kinetic and potential energies in the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types of potential energy functions can be added to modify this equ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4"/>
              <p:cNvSpPr txBox="1"/>
              <p:nvPr/>
            </p:nvSpPr>
            <p:spPr>
              <a:xfrm>
                <a:off x="1905120" y="3429000"/>
                <a:ext cx="3809880" cy="12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E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E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roblem Solving with Conservation of Energ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fine th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the location of zero gravitational potential energ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o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change this location while solving the probl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two points the object of interest moves betwe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e point should be where information is giv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other point should be where you want to find out someth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roblem Solving, co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that only conservative forces are pres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pply the conservation of energy equation to the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mediately substitute zero values, then do the algebra before substituting the other val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lve for the unknown(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Work-Energy With Nonconservative Forc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f nonconservative forces are present, then the full Work-Energy Theorem must be used instead of the equation for Conservation of Energ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ten techniques from previous chapters will need to be employ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#4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otential Energy Stored in a Spring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olves the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spring constan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 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oke’s Law gives the for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 = - k 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 is the restoring for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 is in the opposite direction of 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 depends  on how the spring was formed, the material it is made from, thickness of the wire,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otential Energy in a Spring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astic Potential Energ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lated to the work required to compress a spring from its equilibrium position to some final, arbitrary, position 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4"/>
              <p:cNvSpPr txBox="1"/>
              <p:nvPr/>
            </p:nvSpPr>
            <p:spPr>
              <a:xfrm>
                <a:off x="1981080" y="4267080"/>
                <a:ext cx="198144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Work-Energy Theorem Including a Spring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n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(K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– K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) + (P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gf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– P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gi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) + (P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sf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– P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si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the gravitational potential energ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the elastic potential energy associated with a sp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 will now be used to denote the total potential energy of th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onservation of Energy Including a Spring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PE of the spring is added to both sides of the conservation of energy equ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same problem-solving strategies appl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4"/>
              <p:cNvSpPr txBox="1"/>
              <p:nvPr/>
            </p:nvSpPr>
            <p:spPr>
              <a:xfrm>
                <a:off x="1600200" y="3581280"/>
                <a:ext cx="754380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KE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E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KE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E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3399"/>
                </a:solidFill>
                <a:latin typeface="Verdana"/>
              </a:rPr>
              <a:t>Nonconservative Forces with Energy Considerations</a:t>
            </a:r>
            <a:endParaRPr b="0" lang="en-US" sz="4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nonconservative forces are present, the total mechanical energy of the system is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onst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ork done by all nonconservative forces acting on parts of a system equals the change in the mechanical energy of th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4" name="Object 4"/>
          <p:cNvGraphicFramePr/>
          <p:nvPr/>
        </p:nvGraphicFramePr>
        <p:xfrm>
          <a:off x="1981080" y="5181480"/>
          <a:ext cx="308628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5181480"/>
                    <a:ext cx="308628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Nonconservative Forces and Energ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equation form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energy can either cross a boundary or the energy is transformed into a form of non-mechanical energy such as thermal energ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8" name="Object 4"/>
          <p:cNvGraphicFramePr/>
          <p:nvPr/>
        </p:nvGraphicFramePr>
        <p:xfrm>
          <a:off x="1752480" y="2666880"/>
          <a:ext cx="6134400" cy="120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666880"/>
                    <a:ext cx="6134400" cy="12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ome Energy Consideration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ergy can be transformed from one form to anoth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sential to the study of physics, chemistry, biology, geology, astronom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n be used in place of Newton’s laws to solve certain problems more simp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ay 13 Happy Friday!!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w much work must be done to stop a 2500kg truck travelling at 120 km/hr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was its acceleration if it stopped in 20 cm.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ransferring Energ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y 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y applying a for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duces a displacement of the syst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4" name="Object 5"/>
          <p:cNvGraphicFramePr/>
          <p:nvPr/>
        </p:nvGraphicFramePr>
        <p:xfrm>
          <a:off x="5145120" y="2093760"/>
          <a:ext cx="3809880" cy="323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5120" y="2093760"/>
                    <a:ext cx="3809880" cy="323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ransferring Energ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process of transferring heat by collisions between molecu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 example, the spoon becomes hot because some of the KE of the molecules in the coffee is transferred to the molecules of the spoon as internal energ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8" name="Object 6"/>
          <p:cNvGraphicFramePr/>
          <p:nvPr/>
        </p:nvGraphicFramePr>
        <p:xfrm>
          <a:off x="5562720" y="1752480"/>
          <a:ext cx="27194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1752480"/>
                    <a:ext cx="27194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ransferring Energ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chanical Wav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disturbance propagates through a medi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amples include sound, water, seismi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12" name="Object 7"/>
          <p:cNvGraphicFramePr/>
          <p:nvPr/>
        </p:nvGraphicFramePr>
        <p:xfrm>
          <a:off x="5145120" y="2865600"/>
          <a:ext cx="3809880" cy="241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5120" y="2865600"/>
                    <a:ext cx="3809880" cy="24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ransferring Energ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ectrical transmis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nsfer by means of electrical curr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is how energy enters any electrical dev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16" name="Object 7"/>
          <p:cNvGraphicFramePr/>
          <p:nvPr/>
        </p:nvGraphicFramePr>
        <p:xfrm>
          <a:off x="5145120" y="2801880"/>
          <a:ext cx="3809880" cy="254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5120" y="2801880"/>
                    <a:ext cx="3809880" cy="25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ransferring Energ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ectromagnetic rad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y form of electromagnetic wa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ght, microwaves, radio wav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20" name="Object 4"/>
          <p:cNvGraphicFramePr/>
          <p:nvPr/>
        </p:nvGraphicFramePr>
        <p:xfrm>
          <a:off x="5257800" y="1905120"/>
          <a:ext cx="2685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1905120"/>
                    <a:ext cx="2685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Notes About Conservation of Energ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e can neither create nor destroy energ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other way of saying energy is conserv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the total energy of the system does not remain constant, the energy must have crossed the boundary by some mechanis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ies to areas other than physic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ower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ften also interested in th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rat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t which the energy transfer takes pl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Powe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defined as this rate of energy transf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 units are Watts (W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26" name="Object 4"/>
          <p:cNvGraphicFramePr/>
          <p:nvPr/>
        </p:nvGraphicFramePr>
        <p:xfrm>
          <a:off x="2057400" y="3657600"/>
          <a:ext cx="2459160" cy="110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3657600"/>
                    <a:ext cx="2459160" cy="11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Object 5"/>
          <p:cNvGraphicFramePr/>
          <p:nvPr/>
        </p:nvGraphicFramePr>
        <p:xfrm>
          <a:off x="2057400" y="5562720"/>
          <a:ext cx="2363760" cy="857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9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7400" y="5562720"/>
                    <a:ext cx="236376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ower, cont.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 Customary units are generally h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ed a conversion fac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define units of work or energy in terms of units of powe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ilowatt hours (kWh) are often used in electric bil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is a unit of energy, not pow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Object 4"/>
              <p:cNvSpPr txBox="1"/>
              <p:nvPr/>
            </p:nvSpPr>
            <p:spPr>
              <a:xfrm>
                <a:off x="1752480" y="3124080"/>
                <a:ext cx="411480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h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50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b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46</m:t>
                    </m:r>
                    <m:r>
                      <m:t xml:space="preserve"> 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enter of Mas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point in the body at which all the mass may be considered to be concentrat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using mechanical energy, the change in potential energy is related to the change in height of the center of ma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y stick this in now????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Work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s a link between force and energ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work,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 done by a constant force on an object is defined as the product of the component of the force along the direction of displacement and the magnitude of the displac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Work Done by Varying Forc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ork done by a variable force acting on an object that undergoes a displacement is equal to the area under the graph of F versus 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37" name="Object 7"/>
          <p:cNvGraphicFramePr/>
          <p:nvPr/>
        </p:nvGraphicFramePr>
        <p:xfrm>
          <a:off x="5145120" y="2417760"/>
          <a:ext cx="3809880" cy="33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5120" y="2417760"/>
                    <a:ext cx="380988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pring Exampl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ring is slowly stretched from 0 to xma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 = ½kx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1" name="Object 9"/>
          <p:cNvGraphicFramePr/>
          <p:nvPr/>
        </p:nvGraphicFramePr>
        <p:xfrm>
          <a:off x="1523880" y="3429000"/>
          <a:ext cx="3581640" cy="57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429000"/>
                    <a:ext cx="358164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3" name="Picture 11" descr=""/>
          <p:cNvPicPr/>
          <p:nvPr/>
        </p:nvPicPr>
        <p:blipFill>
          <a:blip r:embed="rId3"/>
          <a:stretch/>
        </p:blipFill>
        <p:spPr>
          <a:xfrm>
            <a:off x="4508640" y="3200400"/>
            <a:ext cx="4559040" cy="29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pring Example, cont.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ork is also equal to the area under the curv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this case, the “curve” is a triangl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= ½ B h gives W = ½ k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6" name="Picture 6" descr=""/>
          <p:cNvPicPr/>
          <p:nvPr/>
        </p:nvPicPr>
        <p:blipFill>
          <a:blip r:embed="rId1"/>
          <a:stretch/>
        </p:blipFill>
        <p:spPr>
          <a:xfrm>
            <a:off x="5029200" y="2057400"/>
            <a:ext cx="3919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homework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pter 5, probs: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4,7,11,14,17,21,22,23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28,32,35, 39,44,50,52,53,55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d due tomorrow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lack due day after tomorrow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Work, cont.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is the magnitude of the for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Δ x is the magnitude of the object’s displac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the angle betwee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5"/>
              <p:cNvSpPr txBox="1"/>
              <p:nvPr/>
            </p:nvSpPr>
            <p:spPr>
              <a:xfrm>
                <a:off x="1447920" y="2057400"/>
                <a:ext cx="28954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≡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12" name="Object 7"/>
          <p:cNvGraphicFramePr/>
          <p:nvPr/>
        </p:nvGraphicFramePr>
        <p:xfrm>
          <a:off x="2057400" y="5638680"/>
          <a:ext cx="1600200" cy="5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5638680"/>
                    <a:ext cx="16002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4" name="Picture 9" descr=""/>
          <p:cNvPicPr/>
          <p:nvPr/>
        </p:nvPicPr>
        <p:blipFill>
          <a:blip r:embed="rId3"/>
          <a:stretch/>
        </p:blipFill>
        <p:spPr>
          <a:xfrm>
            <a:off x="5105520" y="2297160"/>
            <a:ext cx="3962160" cy="26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Work, cont.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s gives no information abou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time it took for the displacement to occ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velocity or acceleration of the obje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 is a scalar quant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Units of Work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wton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ahoma"/>
              </a:rPr>
              <a:t>• meter = Jou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• m = J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J = kg •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 / 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ahoma"/>
              </a:rPr>
              <a:t>US Custom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ahoma"/>
              </a:rPr>
              <a:t>foo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ahoma"/>
              </a:rPr>
              <a:t>• pou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f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• l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ahoma"/>
              </a:rPr>
              <a:t>no special n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ore About Work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work done by a force is zero when the force is perpendicular to the displac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 90° = 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f there are multiple forces acting on an object, the total work done is the algebraic sum of the amount of work done by each for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1T14:04:53Z</dcterms:created>
  <dc:creator>Marilyn Akins</dc:creator>
  <dc:description/>
  <dc:language>en-US</dc:language>
  <cp:lastModifiedBy>gandella</cp:lastModifiedBy>
  <dcterms:modified xsi:type="dcterms:W3CDTF">2009-09-11T15:35:30Z</dcterms:modified>
  <cp:revision>59</cp:revision>
  <dc:subject/>
  <dc:title>Chapter 5</dc:title>
</cp:coreProperties>
</file>